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FA07-FDB4-414E-B5A3-4DE995D3192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B882-EEC9-4CC6-B9AF-D97A9361D380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C546-A9DA-43B5-ABD9-C7E2EE4D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1B7-A739-4381-BDF1-F547FD26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DD36-980C-4E7B-80DE-6F9C777C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4E1F-9BA4-48DF-9968-BBD351BA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C6F0-EC01-4F79-BCDE-EADBA150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5530-BD6B-4435-AC32-570F36C5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6CF7-8A07-454D-9D32-F0F28E52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D34E-CB25-4D4A-A022-D9E59470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737B-316C-4F58-9E69-784F3F07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FC52-16C3-4913-A333-F9CF6FE2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2599-E84F-4040-8BB8-AE5128D1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FD8F-9339-4B14-8C19-D3EE9649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EF8D-8E7D-400C-AA96-495AE95E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16FA-3FCA-4824-83F5-CA775F9A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03A2-7133-403C-85E1-43DA12FE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85C0-CAD3-4537-80B6-D8376144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E846-1C9B-4FDB-8FBA-D64D0C1D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ADF72-FDBF-4BD3-9371-3713FD22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20511-4F1E-45A4-BE7B-FE3AB969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3A0E3-C55A-4B4B-B296-F47147D8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BDE8E-FFE7-4D20-BE11-92D5C61B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1FA0F-CAF3-4F56-BDEC-29C05B95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ADC-F701-4E81-9445-D2121A5D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4A755-486C-4224-B125-EC6F94B1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EBE79-36C0-4253-9452-14A43392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FF8DE-BF04-48C5-B6FE-D34FBE55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C0513-9C44-4D19-9B8A-BEAD26BB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78EF4-104F-4F8A-B42C-ECD81DEB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1A753-27FC-4E79-B64B-25F9E54F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76D13-AAF0-4B2B-9EE0-94A0CC1B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C8BF4-B703-4C50-B3CB-4DA0B4AB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82DB3-D4C1-42D4-9BD9-3E9A47AD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73946-C765-4449-9137-610F551C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F08-F4B9-4896-84CB-90AEC98B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C5CE0-7FA6-48CA-8FA7-CA29AE59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527F4-EC86-470A-B6D0-3714CB5D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CB54D-4401-47F5-BCB0-1CCA722D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F19D0-4C5C-4D45-8DEB-3ECDC2A9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6B05A-C918-4879-B36C-090EFB90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A8C19-EB4E-4ADC-A7FB-B44B6DC1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CA7F8-95A7-4EC4-A962-88581382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BD49F-5CDE-43B1-86A3-8C48972F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635C8-2ED0-4C2C-9DCD-B26C1D6C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26ED1-DD22-45AB-A757-766B3457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D21-FEA4-4B2A-90F5-B1F1365D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16B80-D8D1-4B7A-90B9-1FA0635A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57FA1-F2A1-4C2D-9579-AF05819A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13B4C-8DB9-4059-AB26-3952488B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0D4B5-2D9B-4D4E-9FC6-AEE63F30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4123B-3A97-471C-B977-DD34AF02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068EF-31D3-46B0-89ED-1E2C431C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8457B-C3D8-4220-A016-8F3556B4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B8153-19FC-40BE-ABC5-B48EF19C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E7001-F480-4D5A-A115-65EC303F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45E66-208B-4ED7-A5CA-2B9B7432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654C-4653-4B3F-811D-5149D5AA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A99B7-67EE-4B51-BC87-519F392F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27FEF-3CEE-48DF-B470-DABA88E7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D7702-6FAA-4004-B270-1EB26A94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EF876-10FB-4E7D-B43E-43A46CA3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9614F-107A-46D6-949E-C021CCC2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15E60-F78E-49C7-84D4-717C3796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92EA8-CC47-42BE-ACEA-63582F2B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AD2B6-78CD-4D64-A333-0FB04E68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76589-D725-482F-BB27-E289938B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1D58A-1A87-43D6-9C13-E2C1F236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C90-AB9F-449A-9A27-3B63C670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5AEB9-B0AE-4C87-BD5E-4EAC1BE2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20FBF-63E1-4E0E-8EC6-8C34D4CD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824EB-834D-4A08-96DC-33428C52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E136-4D9F-482F-B61E-53732640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AFE-CB8E-40A4-AB99-604CDA42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7C67-66E7-4BF1-A8D1-D3317EDD99D9}" type="slidenum">
              <a:rPr b="0" lang="es-AR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0 Forma libre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49D6-F6A6-4205-B7F0-6863A6D17442}" type="slidenum">
              <a:rPr b="0" lang="es-AR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0 Forma libre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CA01-D571-448A-97EA-991FFE69FD9D}" type="slidenum">
              <a:rPr b="0" lang="es-AR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3282-388F-4FE6-9C67-46365F6E3607}" type="slidenum">
              <a:rPr b="0" lang="es-AR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7845-55E7-4B9B-AF34-70C631F6EE5C}" type="slidenum">
              <a:rPr b="0" lang="es-AR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44ED-52C0-4A60-9BFA-23C82C16A0A9}" type="slidenum">
              <a:rPr b="0" lang="es-AR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mMij99ETJo&amp;feature=player_detailpag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mailto:hotelmassalialp@hotelmassalia.com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ffffff"/>
                </a:solidFill>
                <a:latin typeface="Franklin Gothic Book"/>
              </a:rPr>
              <a:t>França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8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ffff"/>
                </a:solidFill>
                <a:latin typeface="Arial"/>
              </a:rPr>
              <a:t>Représentation oral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000" spc="-1" strike="noStrike">
                <a:solidFill>
                  <a:srgbClr val="ffffff"/>
                </a:solidFill>
                <a:latin typeface="Arial"/>
              </a:rPr>
              <a:t>Gimena Varela – LAH – Ucel 201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6840" y="1599840"/>
            <a:ext cx="746748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Nouveau site d'emploi pour l'hôtellerie-restauration 100% Grat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Franklin Gothic Book"/>
              </a:rPr>
              <a:t>www.cvhotellerie.com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285840" y="32148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5214960" y="3571920"/>
            <a:ext cx="335772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Argentin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Job Ho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Zonajob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putrabajo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umeran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Franklin Gothic Book"/>
              </a:rPr>
              <a:t>Les avantages pour les candidats et pour les employeurs </a:t>
            </a:r>
            <a:r>
              <a:rPr b="0" lang="es-ES" sz="2800" spc="-1" strike="noStrike">
                <a:solidFill>
                  <a:srgbClr val="ffffff"/>
                </a:solidFill>
                <a:latin typeface="Franklin Gothic Book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599840"/>
            <a:ext cx="746748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pace perso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épose d`offres d`emploi illim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sulter la base des CV´s et les offres d`emplo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essagerie privé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4357800" y="3571920"/>
            <a:ext cx="45576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99680" y="428400"/>
            <a:ext cx="828684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 expérience de recherche d´emploi en Uruguay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Je suis dans la page computrabajo.com.uy à la recherche du travail dans l'industrie hôteliè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près avoir complété le formulaire d'enregistrement et d’insérer mon CV, J’ai demandé de m'informer les offres d'emploi disponibles à travers du mail.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près quelques jours, j'ai reçu une messagerie privée interne à la position du gouvernante pour un hôtel 5 étoiles.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J’ai entrée à la page, mettez le numéro de position, et J´ai lis tous les détails sur les travaux.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our appliquer a la position, J’ai encore introduire mon CV au l'entreprise qui a publiée l'annonce.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uis, cette entreprise m'a contacté pour des interview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600" spc="-1" strike="noStrike">
                <a:solidFill>
                  <a:srgbClr val="ffffff"/>
                </a:solidFill>
                <a:latin typeface="Franklin Gothic Book"/>
              </a:rPr>
              <a:t>La soiree Louis XIV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599840"/>
            <a:ext cx="746748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Arrivé des milliers d'invités au bal masqué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www.youtube.com/watch?v=jmMij99ETJo&amp;feature=player_detailpa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1000440" y="8568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600" spc="-1" strike="noStrike">
                <a:solidFill>
                  <a:srgbClr val="ffffff"/>
                </a:solidFill>
                <a:latin typeface="Franklin Gothic Book"/>
              </a:rPr>
              <a:t>MARSEIL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99680" y="27147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5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rseille est située au sud-est de la France, dans la région de Provence-Alpes-Côte d’ Az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rseille est le premier port français et méditerrané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ville est à proximité de très importantes villes comme Monaco, Nice, Cannes, où se célèbre le Festival De Cannes, du port de Toulon et aussi de la principauté du Mona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Vous pouvez prendre le  TGV et en peu de temps être à Lyon e Par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2 Imagen" descr="regiones-de-francia.gif"/>
          <p:cNvPicPr/>
          <p:nvPr/>
        </p:nvPicPr>
        <p:blipFill>
          <a:blip r:embed="rId1"/>
          <a:stretch/>
        </p:blipFill>
        <p:spPr>
          <a:xfrm>
            <a:off x="5643720" y="0"/>
            <a:ext cx="29271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714400" y="1428480"/>
            <a:ext cx="603252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E CLI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320 jours de soleil par 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a température moyenne à Marseille est de 15°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2" descr="Fichier:Marseille Old Port.jpg"/>
          <p:cNvPicPr/>
          <p:nvPr/>
        </p:nvPicPr>
        <p:blipFill>
          <a:blip r:embed="rId1"/>
          <a:stretch/>
        </p:blipFill>
        <p:spPr>
          <a:xfrm>
            <a:off x="622440" y="1262160"/>
            <a:ext cx="1834920" cy="2657520"/>
          </a:xfrm>
          <a:prstGeom prst="rect">
            <a:avLst/>
          </a:prstGeom>
          <a:ln w="0">
            <a:noFill/>
          </a:ln>
        </p:spPr>
      </p:pic>
      <p:sp>
        <p:nvSpPr>
          <p:cNvPr id="268" name="1 Título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600" spc="-1" strike="noStrike">
                <a:solidFill>
                  <a:srgbClr val="ffffff"/>
                </a:solidFill>
                <a:latin typeface="Franklin Gothic Book"/>
              </a:rPr>
              <a:t>MARSEIL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6 Marcador de posición de imagen" descr="http://www.marseille.fr/sitevdm/document?id=730&amp;id_attribute=66"/>
          <p:cNvPicPr/>
          <p:nvPr/>
        </p:nvPicPr>
        <p:blipFill>
          <a:blip r:embed="rId2"/>
          <a:stretch/>
        </p:blipFill>
        <p:spPr>
          <a:xfrm>
            <a:off x="6407280" y="4834080"/>
            <a:ext cx="2388960" cy="2487600"/>
          </a:xfrm>
          <a:prstGeom prst="rect">
            <a:avLst/>
          </a:prstGeom>
          <a:ln w="0">
            <a:noFill/>
          </a:ln>
        </p:spPr>
      </p:pic>
      <p:pic>
        <p:nvPicPr>
          <p:cNvPr id="270" name="7 Imagen" descr="mairie"/>
          <p:cNvPicPr/>
          <p:nvPr/>
        </p:nvPicPr>
        <p:blipFill>
          <a:blip r:embed="rId3"/>
          <a:stretch/>
        </p:blipFill>
        <p:spPr>
          <a:xfrm>
            <a:off x="6572160" y="3500280"/>
            <a:ext cx="2144880" cy="1197000"/>
          </a:xfrm>
          <a:prstGeom prst="rect">
            <a:avLst/>
          </a:prstGeom>
          <a:ln w="0">
            <a:noFill/>
          </a:ln>
        </p:spPr>
      </p:pic>
      <p:sp>
        <p:nvSpPr>
          <p:cNvPr id="271" name="8 Rectángulo"/>
          <p:cNvSpPr/>
          <p:nvPr/>
        </p:nvSpPr>
        <p:spPr>
          <a:xfrm>
            <a:off x="857160" y="4143240"/>
            <a:ext cx="47149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e déplacer á Marseil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RTM (Régie des Transports de Marseille) exploite un réseau qui compte avec 2 lignes de tramway, 2 lignes de métro et 79 lignes de b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3200400" cy="371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ea0b0"/>
                </a:solidFill>
                <a:latin typeface="Franklin Gothic Book"/>
              </a:rPr>
              <a:t>Des lieux à visiter à Marseille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214200"/>
            <a:ext cx="814716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600" spc="-1" strike="noStrike">
                <a:solidFill>
                  <a:srgbClr val="ffffff"/>
                </a:solidFill>
                <a:latin typeface="Arial"/>
              </a:rPr>
              <a:t>MARSEIL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99920"/>
            <a:ext cx="55436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5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es plages sur la mer Méditerranée le plus important sont Belle Plage, L‘Odine et Le Sporting, mais il y a beaucoup de plages pour tous le types des touris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La Pointe Rouge  se trouve a le quartier la pointe rouge  et offre beaucoup de activités nautiques: voile, plongée, aviron de mer, kayaks ou pirogue polynésienn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La place Castellane est une place avec d’un obélisque que a été construit à l’occasion de la naissance  du fils de l'empereur Napoléon 1er : le </a:t>
            </a:r>
            <a:r>
              <a:rPr b="0" i="1" lang="fr-FR" sz="1400" spc="-1" strike="noStrike">
                <a:solidFill>
                  <a:srgbClr val="ffffff"/>
                </a:solidFill>
                <a:latin typeface="Arial"/>
              </a:rPr>
              <a:t>Roi de Rome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Notre-Dame de la Garde, également appelée localement « la Bonne Mère » est une des basiliques mineures de l'Église catholiqu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7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0" descr="http://www.web-provence.com/photos/pointe-rouge.jpg"/>
          <p:cNvPicPr/>
          <p:nvPr/>
        </p:nvPicPr>
        <p:blipFill>
          <a:blip r:embed="rId1"/>
          <a:stretch/>
        </p:blipFill>
        <p:spPr>
          <a:xfrm>
            <a:off x="6572160" y="357120"/>
            <a:ext cx="2156040" cy="1616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Place Castellane"/>
          <p:cNvPicPr/>
          <p:nvPr/>
        </p:nvPicPr>
        <p:blipFill>
          <a:blip r:embed="rId2"/>
          <a:stretch/>
        </p:blipFill>
        <p:spPr>
          <a:xfrm>
            <a:off x="6858000" y="2000160"/>
            <a:ext cx="1606680" cy="2381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Basilique Notre-Dame-de-la-Garde"/>
          <p:cNvPicPr/>
          <p:nvPr/>
        </p:nvPicPr>
        <p:blipFill>
          <a:blip r:embed="rId3"/>
          <a:stretch/>
        </p:blipFill>
        <p:spPr>
          <a:xfrm>
            <a:off x="6072120" y="4572000"/>
            <a:ext cx="2738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0040" y="1213920"/>
            <a:ext cx="8215200" cy="5486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ea0b0"/>
                </a:solidFill>
                <a:latin typeface="Franklin Gothic Book"/>
              </a:rPr>
              <a:t>Marseille est un lieu très touristique. </a:t>
            </a:r>
            <a:br>
              <a:rPr sz="3600"/>
            </a:br>
            <a:r>
              <a:rPr b="1" lang="fr-FR" sz="3600" spc="-1" strike="noStrike">
                <a:solidFill>
                  <a:srgbClr val="6ea0b0"/>
                </a:solidFill>
                <a:latin typeface="Franklin Gothic Book"/>
              </a:rPr>
              <a:t>Elle est visitée  par beaucoup des gens pendant tout l’année. </a:t>
            </a:r>
            <a:br>
              <a:rPr sz="3600"/>
            </a:br>
            <a:r>
              <a:rPr b="1" lang="fr-FR" sz="3600" spc="-1" strike="noStrike">
                <a:solidFill>
                  <a:srgbClr val="6ea0b0"/>
                </a:solidFill>
                <a:latin typeface="Franklin Gothic Book"/>
              </a:rPr>
              <a:t>Pour cette raison il offre une grande variété de logement. </a:t>
            </a:r>
            <a:br>
              <a:rPr sz="3600"/>
            </a:br>
            <a:r>
              <a:rPr b="1" lang="fr-FR" sz="3600" spc="-1" strike="noStrike">
                <a:solidFill>
                  <a:srgbClr val="6ea0b0"/>
                </a:solidFill>
                <a:latin typeface="Franklin Gothic Book"/>
              </a:rPr>
              <a:t>Marseille  a hôtels a partir de cinq étoiles jusqu’a des petits hôtels.</a:t>
            </a:r>
            <a:br>
              <a:rPr sz="3600"/>
            </a:br>
            <a:r>
              <a:rPr b="1" lang="fr-FR" sz="3600" spc="-1" strike="noStrike">
                <a:solidFill>
                  <a:srgbClr val="6ea0b0"/>
                </a:solidFill>
                <a:latin typeface="Franklin Gothic Book"/>
              </a:rPr>
              <a:t>Á continuation,  je vais présenter l’hôtel  Massalia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829152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600" spc="-1" strike="noStrike">
                <a:solidFill>
                  <a:srgbClr val="ffffff"/>
                </a:solidFill>
                <a:latin typeface="Arial"/>
              </a:rPr>
              <a:t>MARSEIL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320" y="3785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Franklin Gothic Book"/>
              </a:rPr>
              <a:t>Nos Coordonnée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1 Título"/>
          <p:cNvSpPr/>
          <p:nvPr/>
        </p:nvSpPr>
        <p:spPr>
          <a:xfrm>
            <a:off x="900000" y="3716280"/>
            <a:ext cx="5486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3 Marcador de texto"/>
          <p:cNvSpPr/>
          <p:nvPr/>
        </p:nvSpPr>
        <p:spPr>
          <a:xfrm>
            <a:off x="611280" y="4941720"/>
            <a:ext cx="548640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6, Bv.Charles Livon, 7éme arrondisse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éléphone et fax : 04 91 15 59 0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l : </a:t>
            </a:r>
            <a:r>
              <a:rPr b="0" lang="fr-FR" sz="2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otelmassalialp@hotelmassalia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900000" y="2421000"/>
            <a:ext cx="7272360" cy="12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93674f"/>
                </a:solidFill>
                <a:latin typeface="Baskerville Old Face"/>
                <a:ea typeface="MS Mincho"/>
              </a:rPr>
              <a:t>Massalía Hôt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93674f"/>
                </a:solidFill>
                <a:latin typeface="Baskerville Old Face"/>
                <a:ea typeface="MS Mincho"/>
              </a:rPr>
              <a:t>Marseil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3"/>
          <a:stretch/>
        </p:blipFill>
        <p:spPr>
          <a:xfrm>
            <a:off x="3132000" y="333360"/>
            <a:ext cx="2622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5520" y="4929120"/>
            <a:ext cx="7715160" cy="125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1" lang="fr-FR" sz="3600" spc="-1" strike="noStrike">
                <a:solidFill>
                  <a:srgbClr val="000000"/>
                </a:solidFill>
                <a:latin typeface="Franklin Gothic Book"/>
              </a:rPr>
              <a:t>Notre engagement c’est votre confort”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6" name="Picture 3" descr="Iberostar Grand Hotel El Mirador - Vistas del hotel"/>
          <p:cNvPicPr/>
          <p:nvPr/>
        </p:nvPicPr>
        <p:blipFill>
          <a:blip r:embed="rId2"/>
          <a:stretch/>
        </p:blipFill>
        <p:spPr>
          <a:xfrm>
            <a:off x="950760" y="384120"/>
            <a:ext cx="420696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276200" cy="981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600" spc="-1" strike="noStrike">
                <a:solidFill>
                  <a:srgbClr val="000000"/>
                </a:solidFill>
                <a:latin typeface="Franklin Gothic Book"/>
              </a:rPr>
              <a:t>Services aux Cli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600200"/>
            <a:ext cx="7467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vice de concierge 24h / 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vice d’étage disponible 24h sur 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ournal quotidien délivré gratuitement en chambre selon le choix des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vices de blanchisserie et de nettoyage à 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écurité: pour des séjours en toute tranquillit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laisir: grand variete de chaines de television en plusiers  lang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vice de pâtisserie à empor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lle de Fitness avec coach sportif perso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600" spc="-1" strike="noStrike">
                <a:solidFill>
                  <a:srgbClr val="ffffff"/>
                </a:solidFill>
                <a:latin typeface="Franklin Gothic Book"/>
              </a:rPr>
              <a:t>Portrait  de la Gouvernante</a:t>
            </a:r>
            <a:r>
              <a:rPr b="0" lang="es-UY" sz="46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599840"/>
            <a:ext cx="3900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le est née a Rome et elle étude a Lausan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le a arrivée a Paris le dernière âné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le a commencé comme réceptionniste et sa travaille est brilla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ctuellement est la gouvernante de l’hôtel Massali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le a trouvé cet emploi dans un site de recherche d’emploi sur int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3 Imagen" descr="gouvernate.jpg"/>
          <p:cNvPicPr/>
          <p:nvPr/>
        </p:nvPicPr>
        <p:blipFill>
          <a:blip r:embed="rId1"/>
          <a:stretch/>
        </p:blipFill>
        <p:spPr>
          <a:xfrm>
            <a:off x="5143680" y="192888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4:42:42Z</dcterms:created>
  <dc:creator>Jesica Francovig</dc:creator>
  <dc:description/>
  <dc:language>en-US</dc:language>
  <cp:lastModifiedBy>Gimena</cp:lastModifiedBy>
  <dcterms:modified xsi:type="dcterms:W3CDTF">2012-02-17T02:31:52Z</dcterms:modified>
  <cp:revision>32</cp:revision>
  <dc:subject/>
  <dc:title>MARSEILLE</dc:title>
</cp:coreProperties>
</file>